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wmf" ContentType="image/x-wmf"/>
  <Override PartName="/ppt/media/image22.wmf" ContentType="image/x-wmf"/>
  <Override PartName="/ppt/media/image6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D2C-A8C9-4587-9492-86924DB9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432-4D03-44B2-9AA7-8A44A41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B08-52BC-4CBA-A64D-BC91329E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250-ECD5-470A-B389-A1FF2E5F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1744-0E7D-4F83-8955-091D2C39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E4B-B636-40BD-906F-09FE2EF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377-AFCF-4C5D-8AC1-804A13E8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0B2-5360-44C2-819C-51BF1B24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887E-BC57-4926-B697-1A92897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57A3-4919-44F5-8863-6362F3A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0577-8FE2-4F37-A8A1-9A5F24F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F89-50AE-43EC-9EB6-94CC8A2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3677-9F3B-4C42-8322-BDEDA96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BBF2-2A79-4C40-8432-3BD62B58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7075-704A-4DD1-9791-8F2A0506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8A19-604E-44CC-BFE2-29CB5FD6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816-04B6-482C-9760-599D83CD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7980-C134-4FA4-86E7-E830A57C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F4A6-746D-4BFF-B435-990AEBB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CEBB-C73E-4E96-9E62-576E7E42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ADE9-369B-44F2-8AF8-21EDF26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8508-C757-453B-96FF-58AEDB7A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9AB-1C45-49D6-AF8F-17D6A88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877B-298F-4F91-8089-B93403E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76A5-07BD-451D-B94D-D3F4FDC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BBE8-CA44-4BF6-9013-B2FE377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35E0-516C-4E16-8202-B85BEB7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7229-DA6F-4BD9-B159-515CBA91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2BAE-9FEB-40B5-86A9-1DD43894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8B8E-3D00-4A5D-A91C-99557A41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BF692-BA2D-4563-B05B-9D939DA5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898E-7667-44F7-A98E-A046561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34B4-9D92-4EFB-B1B8-0311C1CD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669-C3CB-4B46-9940-6F6C19E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CD99-28CA-4077-B15B-0F7DF9A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785B-9D1B-453B-8981-4A217919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C374-BA18-4701-90F2-70ABB77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ED74-52D8-45B8-BC91-B2E692B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DB18-7AC0-48AE-9DA5-2583B53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FE57-6BEA-47EC-97D6-AC5E795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A05B-917F-4FAE-B348-C20A4BC2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E3C0-403C-48E7-9166-FAB9500B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86C3-AAE4-43F3-8D27-D309B58A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1BE1-AE65-42C2-94FB-57295C48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C39-D057-42C1-9A29-A2CF1FB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24948-C792-47D8-9183-D13AF4B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1809-D94B-4ABA-B4DB-778479C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5843-9C5A-49EF-9AE1-F65C1C2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35A0-94E4-44D1-A4AC-EC0CC4D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8294-87FE-4DBE-81A3-692FF11A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1898-59A9-4EFC-B20F-3981961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D4A6-653B-4956-A45D-D69B8B7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A50E-A92E-4057-960C-4C2A4DE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A69C-F164-4CEB-ACBD-1E52A095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5D39-4D38-42E2-BE3B-8A249CB8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9E5-E105-4F71-AA18-4E28BABD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2B33-7D86-4927-8469-39A57397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9E77-8EE7-443F-9A4E-720C0887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66C6-7414-4A02-BCC3-C5A6926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DC62D-61A5-41A9-9554-8D70CF11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43DD-3D76-4715-A51C-208EEE3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0C2CC-3A12-42C0-A655-1875E94C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9884-16E7-48C1-9A6B-330913B1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CDA0-53B5-490C-A415-6439635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26CE2-13FB-46BC-8131-D8377E3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3EB9-5D0F-4517-B702-EE93952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42B-F4D1-45E5-B9DE-0F499B67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051B1-DEBB-4D64-85C0-B0719E5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AF95-1DF8-43D7-A28F-FDDC100A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F6F1-8ECD-4725-86B3-1910D65A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1806-B5C5-4610-B4A8-3BBB68F4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99CD1-0590-4D16-9CCE-B6062F6B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87FB-654A-4B6C-AC92-554D13DB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ACD0-F7A8-43CF-BD5B-4299972D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6CC2-B18D-474C-BA4C-F419750A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054D0-9633-4E5F-807C-9FB0A66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5751-26FD-4C88-B6D3-3804AFAC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07B-45E6-473D-BC75-714E12F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2A94-FE64-437F-93D2-BC098BB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2DD6-1D10-4BF3-853F-D99DC1E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9528-E2B2-4FD5-B03A-D992620D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51062-EE5A-4538-A9DB-B1177D4F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799D-0C50-4CE3-9281-9CD688BE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0D831-C10F-44D1-8B4C-DF12BC21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4842-DAFC-4313-A578-A4B72C9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A4BA9-B0F8-4E50-A14E-5618F57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5F91-1E96-4B59-95B0-583775A1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0FDA5-ED99-4876-AADE-D215B33D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629-78CD-4306-B963-0CB2A44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A95F-10AE-4770-9C1B-AA2FD685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6FB36-33E1-4830-A1F1-D77B363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C1F9E-7A43-4DDF-8FB3-18A9183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71E62-8521-4038-9805-5F12AC17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9803A-9346-480D-AC24-4E92E0E3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70507-2CF7-4335-AC8D-25FA5621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E54A5-AACA-4512-88AD-7CFA5F8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ecteurs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Bouée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Bouée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CAA9-B66F-4C87-8454-6A4897345FF3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2" descr="logosanscartouche.jpeg"/>
          <p:cNvPicPr/>
          <p:nvPr/>
        </p:nvPicPr>
        <p:blipFill>
          <a:blip r:embed="rId4"/>
          <a:stretch/>
        </p:blipFill>
        <p:spPr>
          <a:xfrm>
            <a:off x="0" y="6281640"/>
            <a:ext cx="1571760" cy="576360"/>
          </a:xfrm>
          <a:prstGeom prst="rect">
            <a:avLst/>
          </a:prstGeom>
          <a:ln w="0">
            <a:noFill/>
          </a:ln>
        </p:spPr>
      </p:pic>
      <p:pic>
        <p:nvPicPr>
          <p:cNvPr id="13" name="Image 13" descr="emep_logo.jpg"/>
          <p:cNvPicPr/>
          <p:nvPr/>
        </p:nvPicPr>
        <p:blipFill>
          <a:blip r:embed="rId5"/>
          <a:stretch/>
        </p:blipFill>
        <p:spPr>
          <a:xfrm>
            <a:off x="1928880" y="6316560"/>
            <a:ext cx="721512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ecteurs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Bouée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Bouée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12" descr="logosanscartouche.jpeg"/>
          <p:cNvPicPr/>
          <p:nvPr/>
        </p:nvPicPr>
        <p:blipFill>
          <a:blip r:embed="rId4"/>
          <a:stretch/>
        </p:blipFill>
        <p:spPr>
          <a:xfrm>
            <a:off x="0" y="6281640"/>
            <a:ext cx="15717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Image 13" descr="emep_logo.jpg"/>
          <p:cNvPicPr/>
          <p:nvPr/>
        </p:nvPicPr>
        <p:blipFill>
          <a:blip r:embed="rId5"/>
          <a:stretch/>
        </p:blipFill>
        <p:spPr>
          <a:xfrm>
            <a:off x="1928880" y="6316560"/>
            <a:ext cx="7215120" cy="541440"/>
          </a:xfrm>
          <a:prstGeom prst="rect">
            <a:avLst/>
          </a:prstGeom>
          <a:ln w="0">
            <a:noFill/>
          </a:ln>
        </p:spPr>
      </p:pic>
      <p:grpSp>
        <p:nvGrpSpPr>
          <p:cNvPr id="59" name="Ellipse 13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Ellipse 13" descr=""/>
            <p:cNvPicPr/>
            <p:nvPr/>
          </p:nvPicPr>
          <p:blipFill>
            <a:blip r:embed="rId6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Ellipse 15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17" descr="logosanscartouche.jpeg"/>
          <p:cNvPicPr/>
          <p:nvPr/>
        </p:nvPicPr>
        <p:blipFill>
          <a:blip r:embed="rId7"/>
          <a:stretch/>
        </p:blipFill>
        <p:spPr>
          <a:xfrm>
            <a:off x="0" y="6281640"/>
            <a:ext cx="1571760" cy="576360"/>
          </a:xfrm>
          <a:prstGeom prst="rect">
            <a:avLst/>
          </a:prstGeom>
          <a:ln w="0">
            <a:noFill/>
          </a:ln>
        </p:spPr>
      </p:pic>
      <p:pic>
        <p:nvPicPr>
          <p:cNvPr id="64" name="Image 18" descr="emep_logo.jpg"/>
          <p:cNvPicPr/>
          <p:nvPr/>
        </p:nvPicPr>
        <p:blipFill>
          <a:blip r:embed="rId8"/>
          <a:stretch/>
        </p:blipFill>
        <p:spPr>
          <a:xfrm>
            <a:off x="1928880" y="6316560"/>
            <a:ext cx="7215120" cy="541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D0A7-A260-4F00-8513-7B0704D06890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cteurs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Bouée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9" name="Bouée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 12" descr="logosanscartouche.jpeg"/>
          <p:cNvPicPr/>
          <p:nvPr/>
        </p:nvPicPr>
        <p:blipFill>
          <a:blip r:embed="rId4"/>
          <a:stretch/>
        </p:blipFill>
        <p:spPr>
          <a:xfrm>
            <a:off x="0" y="6281640"/>
            <a:ext cx="157176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Image 13" descr="emep_logo.jpg"/>
          <p:cNvPicPr/>
          <p:nvPr/>
        </p:nvPicPr>
        <p:blipFill>
          <a:blip r:embed="rId5"/>
          <a:stretch/>
        </p:blipFill>
        <p:spPr>
          <a:xfrm>
            <a:off x="1928880" y="6316560"/>
            <a:ext cx="7215120" cy="541440"/>
          </a:xfrm>
          <a:prstGeom prst="rect">
            <a:avLst/>
          </a:prstGeom>
          <a:ln w="0">
            <a:noFill/>
          </a:ln>
        </p:spPr>
      </p:pic>
      <p:pic>
        <p:nvPicPr>
          <p:cNvPr id="115" name="Image 15" descr="logosanscartouche.jpeg"/>
          <p:cNvPicPr/>
          <p:nvPr/>
        </p:nvPicPr>
        <p:blipFill>
          <a:blip r:embed="rId6"/>
          <a:stretch/>
        </p:blipFill>
        <p:spPr>
          <a:xfrm>
            <a:off x="0" y="6281640"/>
            <a:ext cx="15717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6" descr="emep_logo.jpg"/>
          <p:cNvPicPr/>
          <p:nvPr/>
        </p:nvPicPr>
        <p:blipFill>
          <a:blip r:embed="rId7"/>
          <a:stretch/>
        </p:blipFill>
        <p:spPr>
          <a:xfrm>
            <a:off x="1928880" y="6316560"/>
            <a:ext cx="7215120" cy="541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039A-A4A8-4005-9326-3602A1B12EF0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Ellipse 16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61" name="Ellipse 16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Ellipse 17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231-9D6F-4745-AD62-9D8A9469908C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F86-6DD6-43D4-B3FC-F1C8500A2CD5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1771-8E36-46D4-90D7-245E7DA2FAD5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A45-6681-4D24-98B3-924CEDFE52AE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Rectangle 13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31" name="Rectangle 13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Organigramme : Processus 15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rganigramme : Processus 16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Lucida Sans Unicode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36C-0AA3-4A50-8B72-0039C1D4CCFE}" type="slidenum">
              <a:rPr b="0" lang="fr-FR" sz="1200" spc="-1" strike="noStrike">
                <a:solidFill>
                  <a:srgbClr val="899ba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9.wmf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00120" y="571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fr-FR" sz="3900" spc="-1" strike="noStrike">
                <a:solidFill>
                  <a:srgbClr val="5f688b"/>
                </a:solidFill>
                <a:latin typeface="Lucida Sans Unicode"/>
              </a:rPr>
              <a:t>Task Force on Modelling and measurement activity : synergies with FAIRMODE</a:t>
            </a:r>
            <a:endParaRPr b="0" lang="en-US" sz="39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428840" y="264276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23851"/>
                </a:solidFill>
                <a:latin typeface="Comic Sans MS"/>
              </a:rPr>
              <a:t>Laurence Rouïl (INERIS)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23851"/>
                </a:solidFill>
                <a:latin typeface="Comic Sans MS"/>
              </a:rPr>
              <a:t>Co-chair of the TFMM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tre 1"/>
          <p:cNvSpPr/>
          <p:nvPr/>
        </p:nvSpPr>
        <p:spPr>
          <a:xfrm>
            <a:off x="12142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Lucida Sans Unicode"/>
              </a:rPr>
              <a:t>Current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space réservé du contenu 2"/>
          <p:cNvSpPr/>
          <p:nvPr/>
        </p:nvSpPr>
        <p:spPr>
          <a:xfrm>
            <a:off x="1214280" y="78588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M modell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 realisation of EMEP field campaigns (2006-2007 and 2008-2009) dedicated to PM spe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ural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C/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itrogen issue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according to the revised EMEP strategy and considering  and the current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ment of  the model accuracy (resoluti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Urban scal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how to better account for the urban scale in regional air quality assessment : City-Delta 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consistencies between emissions, measurement and modell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some pollutants : heavy metals, PM and even O3 (trends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Use of the new generation of observation data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monitoring networks  (EUSAAR, EUCAARi, EARLINET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arth Observ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lèche droite rayée 5"/>
          <p:cNvSpPr/>
          <p:nvPr/>
        </p:nvSpPr>
        <p:spPr>
          <a:xfrm>
            <a:off x="1214280" y="5429160"/>
            <a:ext cx="1357560" cy="571680"/>
          </a:xfrm>
          <a:prstGeom prst="pie">
            <a:avLst/>
          </a:prstGeom>
          <a:solidFill>
            <a:srgbClr val="61898a"/>
          </a:solidFill>
          <a:ln w="255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oneTexte 6"/>
          <p:cNvSpPr/>
          <p:nvPr/>
        </p:nvSpPr>
        <p:spPr>
          <a:xfrm>
            <a:off x="2811240" y="5500800"/>
            <a:ext cx="61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vious cooperation with other on-going or emer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itiativ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-143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Lucida Sans Unicode"/>
              </a:rPr>
              <a:t>Identified areas for cooperation</a:t>
            </a:r>
            <a:endParaRPr b="0" lang="en-US" sz="3200" spc="-1" strike="noStrike">
              <a:solidFill>
                <a:srgbClr val="572314"/>
              </a:solidFill>
              <a:latin typeface="Lucida Sans Unicode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285920" y="905040"/>
          <a:ext cx="7499160" cy="5952960"/>
        </p:xfrm>
        <a:graphic>
          <a:graphicData uri="http://schemas.openxmlformats.org/drawingml/2006/table">
            <a:tbl>
              <a:tblPr/>
              <a:tblGrid>
                <a:gridCol w="3749760"/>
                <a:gridCol w="3749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pics of interest for TF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tential collabo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 mod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projects and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IR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rogen comp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rogen initiativ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4MACS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IR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initia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nsistency between emissions/modelling/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RTAP bo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IR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generation of observ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 observatio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ES proje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 Routine » tasks : model evaluation, trend analysis, S/R mat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fulfil national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C/GMES –  EURO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IR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of input data : emissions, BC, land cover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RTAP task 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ES/MACC - EURODELTA – EC4MA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IR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re 1"/>
          <p:cNvSpPr/>
          <p:nvPr/>
        </p:nvSpPr>
        <p:spPr>
          <a:xfrm>
            <a:off x="1587600" y="4269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f688b"/>
                </a:solidFill>
                <a:latin typeface="Lucida Sans Unicode"/>
              </a:rPr>
              <a:t>Upcoming TFM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contenu 2"/>
          <p:cNvSpPr/>
          <p:nvPr/>
        </p:nvSpPr>
        <p:spPr>
          <a:xfrm>
            <a:off x="1587600" y="1600200"/>
            <a:ext cx="749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FMM workshop – November 2009, Ispra - back to back with the FAIRMODE plenary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ication of gaps to be filled in and future priorities for the next EMEP field campa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cision on the future modelling activities of the TFMM : modelling objectives, national contribution, collaboration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FMM annual meeting– Spring 2010-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yprus ; back to back with a joint day with the TFEIP annu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Lucida Sans Unicode"/>
              </a:rPr>
              <a:t>The TFMM within the CLRTAP set up</a:t>
            </a:r>
            <a:endParaRPr b="0" lang="en-US" sz="32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1214280" y="857160"/>
            <a:ext cx="7301160" cy="5483160"/>
          </a:xfrm>
          <a:prstGeom prst="rect">
            <a:avLst/>
          </a:prstGeom>
          <a:ln w="0">
            <a:noFill/>
          </a:ln>
        </p:spPr>
      </p:pic>
      <p:sp>
        <p:nvSpPr>
          <p:cNvPr id="381" name="Ellipse 4"/>
          <p:cNvSpPr/>
          <p:nvPr/>
        </p:nvSpPr>
        <p:spPr>
          <a:xfrm>
            <a:off x="4214880" y="3071880"/>
            <a:ext cx="1928880" cy="642960"/>
          </a:xfrm>
          <a:prstGeom prst="ellipse">
            <a:avLst/>
          </a:prstGeom>
          <a:noFill/>
          <a:ln w="381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Lucida Sans Unicode"/>
              </a:rPr>
              <a:t>Measurement and modelling as a whole </a:t>
            </a:r>
            <a:endParaRPr b="0" lang="en-US" sz="28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71360" y="8568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 the implementation of the protocols of the Convention on Long Range Transboundary Air Pollution: Gothenburg, HM, P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essment of the impact of the protocols: impact of the reduction of the emissions of air pollu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Long term monitoring according to the EMEP monitoring strategy (NILU/CC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Spatialized air concentration and deposition fields in the EMEP area computed with the EMEP models : O3, PM (met.no/MSC-W) , POPs, HM (MSC-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Input data for TFIAM : source/receptor matrices for the RAINS/GAINS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EMEP assessment Report ; EMEP PM assessment report (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EMEP-unified model review (2004); EURODELTA 1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so4.cgm"/>
          <p:cNvPicPr/>
          <p:nvPr/>
        </p:nvPicPr>
        <p:blipFill>
          <a:blip r:embed="rId2"/>
          <a:stretch/>
        </p:blipFill>
        <p:spPr>
          <a:xfrm>
            <a:off x="177840" y="1120680"/>
            <a:ext cx="2881440" cy="2880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4"/>
          <p:cNvSpPr/>
          <p:nvPr/>
        </p:nvSpPr>
        <p:spPr>
          <a:xfrm>
            <a:off x="513360" y="9874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ain ions in prec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pm.cgm"/>
          <p:cNvPicPr/>
          <p:nvPr/>
        </p:nvPicPr>
        <p:blipFill>
          <a:blip r:embed="rId3"/>
          <a:stretch/>
        </p:blipFill>
        <p:spPr>
          <a:xfrm>
            <a:off x="3143160" y="112068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9"/>
          <p:cNvSpPr/>
          <p:nvPr/>
        </p:nvSpPr>
        <p:spPr>
          <a:xfrm>
            <a:off x="3608280" y="987480"/>
            <a:ext cx="196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nb-NO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and/or PM</a:t>
            </a:r>
            <a:r>
              <a:rPr b="0" lang="nb-NO" sz="18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1"/>
          <p:cNvSpPr/>
          <p:nvPr/>
        </p:nvSpPr>
        <p:spPr>
          <a:xfrm>
            <a:off x="6865560" y="1000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C, OC or 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2" descr="hm.cgm"/>
          <p:cNvPicPr/>
          <p:nvPr/>
        </p:nvPicPr>
        <p:blipFill>
          <a:blip r:embed="rId4"/>
          <a:stretch/>
        </p:blipFill>
        <p:spPr>
          <a:xfrm>
            <a:off x="142920" y="414324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3"/>
          <p:cNvSpPr/>
          <p:nvPr/>
        </p:nvSpPr>
        <p:spPr>
          <a:xfrm>
            <a:off x="795600" y="39783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Heavy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4" descr="pop.cgm"/>
          <p:cNvPicPr/>
          <p:nvPr/>
        </p:nvPicPr>
        <p:blipFill>
          <a:blip r:embed="rId5"/>
          <a:stretch/>
        </p:blipFill>
        <p:spPr>
          <a:xfrm>
            <a:off x="3106800" y="4143240"/>
            <a:ext cx="2881080" cy="2880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5"/>
          <p:cNvSpPr/>
          <p:nvPr/>
        </p:nvSpPr>
        <p:spPr>
          <a:xfrm>
            <a:off x="4214880" y="39783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7286760" y="4000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8" descr="tc.cgm"/>
          <p:cNvPicPr/>
          <p:nvPr/>
        </p:nvPicPr>
        <p:blipFill>
          <a:blip r:embed="rId6"/>
          <a:stretch/>
        </p:blipFill>
        <p:spPr>
          <a:xfrm>
            <a:off x="6072120" y="112068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395" name="Title 19"/>
          <p:cNvSpPr/>
          <p:nvPr/>
        </p:nvSpPr>
        <p:spPr>
          <a:xfrm>
            <a:off x="28584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572314"/>
                </a:solidFill>
                <a:latin typeface="Lucida Sans Unicode"/>
              </a:rPr>
              <a:t>Status 2006, incl intens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0" descr="voc.cgm"/>
          <p:cNvPicPr/>
          <p:nvPr/>
        </p:nvPicPr>
        <p:blipFill>
          <a:blip r:embed="rId7"/>
          <a:stretch/>
        </p:blipFill>
        <p:spPr>
          <a:xfrm>
            <a:off x="6072120" y="414324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1"/>
          <p:cNvSpPr/>
          <p:nvPr/>
        </p:nvSpPr>
        <p:spPr>
          <a:xfrm>
            <a:off x="432360" y="3286080"/>
            <a:ext cx="4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289440" y="6357960"/>
            <a:ext cx="4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4"/>
          <p:cNvSpPr/>
          <p:nvPr/>
        </p:nvSpPr>
        <p:spPr>
          <a:xfrm>
            <a:off x="3289680" y="6286680"/>
            <a:ext cx="4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5"/>
          <p:cNvSpPr/>
          <p:nvPr/>
        </p:nvSpPr>
        <p:spPr>
          <a:xfrm>
            <a:off x="6361560" y="6286680"/>
            <a:ext cx="4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6"/>
          <p:cNvSpPr/>
          <p:nvPr/>
        </p:nvSpPr>
        <p:spPr>
          <a:xfrm>
            <a:off x="3361320" y="3286080"/>
            <a:ext cx="4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7"/>
          <p:cNvSpPr/>
          <p:nvPr/>
        </p:nvSpPr>
        <p:spPr>
          <a:xfrm>
            <a:off x="6361560" y="3286080"/>
            <a:ext cx="4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Image 20" descr="emep_logo.jpg"/>
          <p:cNvPicPr/>
          <p:nvPr/>
        </p:nvPicPr>
        <p:blipFill>
          <a:blip r:embed="rId8"/>
          <a:stretch/>
        </p:blipFill>
        <p:spPr>
          <a:xfrm>
            <a:off x="1357200" y="0"/>
            <a:ext cx="7620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1" descr="emep_logo.jpg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71680"/>
          </a:xfrm>
          <a:prstGeom prst="rect">
            <a:avLst/>
          </a:prstGeom>
          <a:ln w="0">
            <a:noFill/>
          </a:ln>
        </p:spPr>
      </p:pic>
      <p:sp>
        <p:nvSpPr>
          <p:cNvPr id="405" name="ZoneTexte 3"/>
          <p:cNvSpPr/>
          <p:nvPr/>
        </p:nvSpPr>
        <p:spPr>
          <a:xfrm>
            <a:off x="3080880" y="11430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vel 1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3286080" y="3414600"/>
            <a:ext cx="564372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Picture 8" descr=""/>
          <p:cNvPicPr/>
          <p:nvPr/>
        </p:nvPicPr>
        <p:blipFill>
          <a:blip r:embed="rId4"/>
          <a:stretch/>
        </p:blipFill>
        <p:spPr>
          <a:xfrm>
            <a:off x="142920" y="642960"/>
            <a:ext cx="514980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ZoneTexte 5"/>
          <p:cNvSpPr/>
          <p:nvPr/>
        </p:nvSpPr>
        <p:spPr>
          <a:xfrm>
            <a:off x="7013160" y="42861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vel2 super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ZoneTexte 6"/>
          <p:cNvSpPr/>
          <p:nvPr/>
        </p:nvSpPr>
        <p:spPr>
          <a:xfrm>
            <a:off x="3152160" y="12142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vel 1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Lucida Sans Unicode"/>
              </a:rPr>
              <a:t>The modelling activity </a:t>
            </a:r>
            <a:endParaRPr b="0" lang="en-US" sz="32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28800" y="928440"/>
            <a:ext cx="80056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ed-value brought by the common work joining measurement and modelling commun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early production of trends analyses country by country and source/receptor relationships (transboundary contributions to “national” air pollu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 to the development and the evaluation of the EMEP models (/www.emep.int/OpenSource/index.html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change of experience with the modelling teams in the Parties; support for the development of modelling capacities in the Pa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Lucida Sans Unicode"/>
              </a:rPr>
              <a:t>Current priorities</a:t>
            </a:r>
            <a:endParaRPr b="0" lang="en-US" sz="3200" spc="-1" strike="noStrike">
              <a:solidFill>
                <a:srgbClr val="572314"/>
              </a:solidFill>
              <a:latin typeface="Lucida Sans Unicod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213920" y="999720"/>
            <a:ext cx="77202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M modelling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 realisation of EMEP field campaigns (2006-2007 and 2008-2009) dedicated to PM speci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ural contribu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C/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itrogen issu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according to the revised EMEP strategy and considering  and the current initia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ment of  the model accuracy (resolution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Urban scal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how to better account for the urban scale in regional air quality assessment : City-Delta Follow-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consistencies between emissions, measurement and modelling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some pollutants : heavy metals fir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Use of the new generation of observation dat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monitoring networks  (EUSAAR, EUCAARi, EARLINET..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arth Observation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2"/>
          <p:cNvGraphicFramePr/>
          <p:nvPr/>
        </p:nvGraphicFramePr>
        <p:xfrm>
          <a:off x="5367240" y="1143000"/>
          <a:ext cx="3451320" cy="262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7240" y="1143000"/>
                    <a:ext cx="345132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"/>
          <p:cNvGraphicFramePr/>
          <p:nvPr/>
        </p:nvGraphicFramePr>
        <p:xfrm>
          <a:off x="5361120" y="3807000"/>
          <a:ext cx="3449520" cy="2544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1120" y="3807000"/>
                    <a:ext cx="34495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5"/>
          <p:cNvGraphicFramePr/>
          <p:nvPr/>
        </p:nvGraphicFramePr>
        <p:xfrm>
          <a:off x="1112760" y="3807000"/>
          <a:ext cx="4218120" cy="26398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19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2760" y="3807000"/>
                    <a:ext cx="42181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7"/>
          <p:cNvGraphicFramePr/>
          <p:nvPr/>
        </p:nvGraphicFramePr>
        <p:xfrm>
          <a:off x="1071720" y="1143000"/>
          <a:ext cx="4217760" cy="26416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71720" y="1143000"/>
                    <a:ext cx="42177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ZoneTexte 5"/>
          <p:cNvSpPr/>
          <p:nvPr/>
        </p:nvSpPr>
        <p:spPr>
          <a:xfrm>
            <a:off x="1674360" y="50004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ne 2006- Evaluation of the EMEP-Unifed model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Image 6" descr="getLogo.gif"/>
          <p:cNvPicPr/>
          <p:nvPr/>
        </p:nvPicPr>
        <p:blipFill>
          <a:blip r:embed="rId10"/>
          <a:stretch/>
        </p:blipFill>
        <p:spPr>
          <a:xfrm>
            <a:off x="0" y="0"/>
            <a:ext cx="6572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himmel2"/>
          <p:cNvPicPr/>
          <p:nvPr/>
        </p:nvPicPr>
        <p:blipFill>
          <a:blip r:embed="rId2"/>
          <a:stretch/>
        </p:blipFill>
        <p:spPr>
          <a:xfrm>
            <a:off x="0" y="0"/>
            <a:ext cx="9144000" cy="118908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6705720" y="661356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000" spc="-1" strike="noStrike">
                <a:solidFill>
                  <a:srgbClr val="000000"/>
                </a:solidFill>
                <a:latin typeface="Trebuchet MS"/>
              </a:rPr>
              <a:t>Meteorologisk Institutt</a:t>
            </a:r>
            <a:r>
              <a:rPr b="0" i="1" lang="nb-NO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nb-NO" sz="1000" spc="-1" strike="noStrike">
                <a:solidFill>
                  <a:srgbClr val="ff3300"/>
                </a:solidFill>
                <a:latin typeface="Trebuchet MS"/>
              </a:rPr>
              <a:t>met.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CH02_PM25_2006"/>
          <p:cNvPicPr/>
          <p:nvPr/>
        </p:nvPicPr>
        <p:blipFill>
          <a:blip r:embed="rId3"/>
          <a:stretch/>
        </p:blipFill>
        <p:spPr>
          <a:xfrm>
            <a:off x="3348000" y="2978280"/>
            <a:ext cx="5796000" cy="3879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CH02_PM10_2006"/>
          <p:cNvPicPr/>
          <p:nvPr/>
        </p:nvPicPr>
        <p:blipFill>
          <a:blip r:embed="rId4"/>
          <a:stretch/>
        </p:blipFill>
        <p:spPr>
          <a:xfrm>
            <a:off x="0" y="152280"/>
            <a:ext cx="5813280" cy="38862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3"/>
          <p:cNvSpPr/>
          <p:nvPr/>
        </p:nvSpPr>
        <p:spPr>
          <a:xfrm>
            <a:off x="5867280" y="990720"/>
            <a:ext cx="297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b4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b400"/>
                </a:solidFill>
                <a:latin typeface="Arial"/>
              </a:rPr>
              <a:t>Improvement for Pay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3:16:26Z</dcterms:created>
  <dc:creator>Rouil</dc:creator>
  <dc:description/>
  <dc:language>en-US</dc:language>
  <cp:lastModifiedBy>lhtee</cp:lastModifiedBy>
  <dcterms:modified xsi:type="dcterms:W3CDTF">2009-12-17T12:50:25Z</dcterms:modified>
  <cp:revision>52</cp:revision>
  <dc:subject/>
  <dc:title>   Report on the Task Force on Modelling and measurement activity</dc:title>
</cp:coreProperties>
</file>