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EFB-6C14-47D4-A137-39D94768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add a picture with the mean Ozone results for 2000 given by the ensemble – and keep the model variability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 clarify referenc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E8A-89AC-4429-8221-89DE97D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F80-4E34-49D8-97B0-4519694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658-814E-467E-B2FF-F2080DBC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268-F233-47FF-A4EB-489C4653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0DB-8D5F-4F80-8E5A-F503407F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EA4-E4F6-40CD-8D83-21D3A386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C22-BCD4-4391-A330-527379A7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7E1-D077-414D-BB3D-E2335F36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51F-85CD-4FDF-BFE3-8C86A9F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795-2878-4E42-A99B-306C14F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C75-5AA9-4E24-8CDC-847EE07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2E2-05BF-474D-911F-9375A5F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7A15-0630-47F6-89BA-FBEE0E70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qm.jrc.it/eurodelta" TargetMode="External"/><Relationship Id="rId3" Type="http://schemas.openxmlformats.org/officeDocument/2006/relationships/hyperlink" Target="http://aqm.jrc.it/eurodelta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aqm.jrc.it/citydelta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36720" y="486900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C. Cuvelier and P. Thun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JRC,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spra -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180036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55880" y="6040440"/>
            <a:ext cx="1536840" cy="48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3880" y="371520"/>
            <a:ext cx="8504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be0e3"/>
                </a:solidFill>
                <a:latin typeface="Arial"/>
              </a:rPr>
              <a:t>Harmonisation in AQ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be0e3"/>
                </a:solidFill>
                <a:latin typeface="Arial"/>
              </a:rPr>
              <a:t>&lt; CityDelta, EuroDelta, … Fairmode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14920" y="2492280"/>
            <a:ext cx="1728720" cy="1798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77520" y="6237360"/>
            <a:ext cx="27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Fairmode, Cavtat, 10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44880" y="1752480"/>
            <a:ext cx="441936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15228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8 Citi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360" y="2317680"/>
            <a:ext cx="12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r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0360" y="2317680"/>
            <a:ext cx="2028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openh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Kato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ars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27000" y="76320"/>
            <a:ext cx="55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8 Emission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219320"/>
            <a:ext cx="670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0 ---  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1 ---   2010 CLE: Current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2 ---   2010 NOx MFR: Maximum Feasibl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3 ---   2010 NOx (CLE+MFR)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4 ---   2010 VOC M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5 ---   2010 NOX and VOC M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6 ---   2010 PMcoarse M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7 ---   2010 PM2.5 M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29200" y="2819520"/>
          <a:ext cx="3809880" cy="19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LE-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MFR-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a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i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er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63800" y="5318280"/>
            <a:ext cx="86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bbe0e3"/>
                </a:solidFill>
                <a:uFillTx/>
                <a:latin typeface="Arial"/>
              </a:rPr>
              <a:t>Meteo:</a:t>
            </a:r>
            <a:r>
              <a:rPr b="1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1999 provided by Meteo-France (Aladin 10 km) or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Boundary conditions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provided by EMEP or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Long term simulations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full year for PM, 6 months for 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Outputs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delivered with resolution of 5-10 or 5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4000" y="692280"/>
          <a:ext cx="864072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92280"/>
                    <a:ext cx="86407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135080" y="16524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Emission Inventories: Local vs Reg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05320"/>
            <a:ext cx="820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Ox, CO, SOx estimates seems quite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M estimates show 40-50%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16640"/>
            <a:ext cx="763272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Wingdings" charset="2"/>
              <a:buChar char="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ityDelta has also contributed to a consid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vision of the regional-scale (EMEP) emission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6240" y="6660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bbe0e3"/>
                </a:solidFill>
                <a:uFillTx/>
                <a:latin typeface="Arial"/>
              </a:rPr>
              <a:t>Model Validation: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- The “Taylor”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- The “Ensemble”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1020960" y="1844640"/>
            <a:ext cx="9958320" cy="5211720"/>
            <a:chOff x="-1020960" y="1844640"/>
            <a:chExt cx="9958320" cy="52117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31750" t="66681" r="31750" b="0"/>
            <a:stretch/>
          </p:blipFill>
          <p:spPr>
            <a:xfrm>
              <a:off x="4629600" y="1844640"/>
              <a:ext cx="4307760" cy="399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-1020960" y="1844640"/>
              <a:ext cx="6750720" cy="5211720"/>
              <a:chOff x="-1020960" y="1844640"/>
              <a:chExt cx="6750720" cy="5211720"/>
            </a:xfrm>
          </p:grpSpPr>
          <p:sp>
            <p:nvSpPr>
              <p:cNvPr id="95" name=""/>
              <p:cNvSpPr/>
              <p:nvPr/>
            </p:nvSpPr>
            <p:spPr>
              <a:xfrm>
                <a:off x="250920" y="1844640"/>
                <a:ext cx="4405320" cy="40384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2">
                <a:lum contrast="12000"/>
              </a:blip>
              <a:stretch/>
            </p:blipFill>
            <p:spPr>
              <a:xfrm>
                <a:off x="421560" y="2023920"/>
                <a:ext cx="4053960" cy="3291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275920" y="4830480"/>
                <a:ext cx="221400" cy="186840"/>
              </a:xfrm>
              <a:prstGeom prst="star5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75080" y="3552480"/>
                <a:ext cx="221040" cy="1886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97640" y="4720680"/>
                <a:ext cx="324360" cy="89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08" y="208"/>
                    </a:moveTo>
                    <a:arcTo wR="10800" hR="10800" stAng="-4724579" swAng="29291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08" y="208"/>
                    </a:moveTo>
                    <a:arcTo wR="10800" hR="10800" stAng="-4724579" swAng="292919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19880" y="4957560"/>
                <a:ext cx="135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375640" y="3661920"/>
                <a:ext cx="289440" cy="12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019880" y="3661920"/>
                <a:ext cx="1645560" cy="12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929600">
                <a:off x="2208600" y="413028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RM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640" y="3987360"/>
                <a:ext cx="358920" cy="25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6160" y="4690800"/>
                <a:ext cx="3938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-1020960" y="2790720"/>
                <a:ext cx="4100040" cy="426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1104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110414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558200">
                <a:off x="1492920" y="2860200"/>
                <a:ext cx="65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r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595440" y="5425920"/>
                <a:ext cx="632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616040" indent="-161604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.E.Taylor, 2001, JGR, 106, 7183-719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643280" y="1844640"/>
            <a:ext cx="4321440" cy="403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51640" y="1844640"/>
            <a:ext cx="1511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797360"/>
            <a:ext cx="720720" cy="647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99160" y="2781360"/>
            <a:ext cx="574560" cy="50472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62320" y="3505320"/>
            <a:ext cx="1229760" cy="1447200"/>
            <a:chOff x="2362320" y="3505320"/>
            <a:chExt cx="1229760" cy="1447200"/>
          </a:xfrm>
        </p:grpSpPr>
        <p:sp>
          <p:nvSpPr>
            <p:cNvPr id="114" name=""/>
            <p:cNvSpPr/>
            <p:nvPr/>
          </p:nvSpPr>
          <p:spPr>
            <a:xfrm>
              <a:off x="2666880" y="3657600"/>
              <a:ext cx="762120" cy="152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362320" y="3809520"/>
              <a:ext cx="1066680" cy="1143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665800" y="3737160"/>
              <a:ext cx="150840" cy="26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05120" y="3701880"/>
              <a:ext cx="25560" cy="867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1320" y="35053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cc00"/>
                  </a:solidFill>
                  <a:latin typeface="Arial"/>
                </a:rPr>
                <a:t>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7640" y="41911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cc00"/>
                  </a:solidFill>
                  <a:latin typeface="Arial"/>
                </a:rPr>
                <a:t>RM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589720"/>
            <a:ext cx="4174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8600" y="1309680"/>
            <a:ext cx="34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3 Summer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165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5805360"/>
            <a:ext cx="1511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6093000"/>
            <a:ext cx="15112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8320" y="56088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4889520"/>
            <a:ext cx="352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  MIL  LON  KAT  PRA 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789440" y="1295280"/>
            <a:ext cx="4175280" cy="4030920"/>
            <a:chOff x="4789440" y="1295280"/>
            <a:chExt cx="4175280" cy="4030920"/>
          </a:xfrm>
        </p:grpSpPr>
        <p:sp>
          <p:nvSpPr>
            <p:cNvPr id="128" name=""/>
            <p:cNvSpPr/>
            <p:nvPr/>
          </p:nvSpPr>
          <p:spPr>
            <a:xfrm>
              <a:off x="5509800" y="1295280"/>
              <a:ext cx="26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PM10 Win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4789440" y="2014560"/>
              <a:ext cx="417528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628960" y="4941720"/>
              <a:ext cx="3121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R      MIL      PRA      P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996840" y="76320"/>
            <a:ext cx="767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Delta” Interpretation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(City-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3640" y="0"/>
            <a:ext cx="85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Delta” Interpretation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(Emission-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18200" y="749160"/>
            <a:ext cx="3530520" cy="2967120"/>
            <a:chOff x="5218200" y="749160"/>
            <a:chExt cx="3530520" cy="29671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1700" t="32517" r="67873" b="35433"/>
            <a:stretch/>
          </p:blipFill>
          <p:spPr>
            <a:xfrm>
              <a:off x="5218200" y="922320"/>
              <a:ext cx="3530520" cy="27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229800" y="749160"/>
              <a:ext cx="224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NOx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21440" y="3817800"/>
            <a:ext cx="3527280" cy="2901960"/>
            <a:chOff x="5221440" y="3817800"/>
            <a:chExt cx="3527280" cy="290196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rcRect l="34802" t="32512" r="33894" b="35428"/>
            <a:stretch/>
          </p:blipFill>
          <p:spPr>
            <a:xfrm>
              <a:off x="5221440" y="4005360"/>
              <a:ext cx="3527280" cy="27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88760" y="3817800"/>
              <a:ext cx="2296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VOC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1280" y="1773360"/>
            <a:ext cx="3671280" cy="3239640"/>
            <a:chOff x="611280" y="1773360"/>
            <a:chExt cx="3671280" cy="323964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rcRect l="34802" t="0" r="34784" b="69442"/>
            <a:stretch/>
          </p:blipFill>
          <p:spPr>
            <a:xfrm>
              <a:off x="611280" y="2004480"/>
              <a:ext cx="3671280" cy="30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659960" y="1773360"/>
              <a:ext cx="2097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CLE-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74360" y="990720"/>
            <a:ext cx="1759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OMO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(CityDom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5589720"/>
            <a:ext cx="4174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805360"/>
            <a:ext cx="1511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6093000"/>
            <a:ext cx="15112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8320" y="56088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589720"/>
            <a:ext cx="4174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35688" t="32512" r="34784" b="35428"/>
          <a:stretch/>
        </p:blipFill>
        <p:spPr>
          <a:xfrm>
            <a:off x="5219640" y="3933720"/>
            <a:ext cx="3600360" cy="2792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2586" t="32512" r="67887" b="35428"/>
          <a:stretch/>
        </p:blipFill>
        <p:spPr>
          <a:xfrm>
            <a:off x="5219640" y="923760"/>
            <a:ext cx="3600360" cy="279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35688" t="0" r="34784" b="68475"/>
          <a:stretch/>
        </p:blipFill>
        <p:spPr>
          <a:xfrm>
            <a:off x="611280" y="2041560"/>
            <a:ext cx="3744720" cy="3043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08000" y="182088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E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73980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x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378936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OC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3640" y="0"/>
            <a:ext cx="85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Delta” Interpretation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(Emission-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805360"/>
            <a:ext cx="1511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093000"/>
            <a:ext cx="15112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8320" y="56088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3280" y="990720"/>
            <a:ext cx="1364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M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(CityDom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first approach for addressing urban air quality for Europe-wide health impact assessment has been developed and implemented – based on observations and City-Delta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gent need for validation of the FR with monitoring data, hampered by lack of PM2.5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resently, grid average wind speeds used. No consideration of topography. City-specific wind speeds should impr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Which emission/population density is representative of a city (how to draw city borders)? This determines directly the size of the urban inc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ublications:</a:t>
            </a:r>
            <a:br>
              <a:rPr sz="3600"/>
            </a:br>
            <a:br>
              <a:rPr sz="24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verview: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uvelier,Thunis, Vautard, et al.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Validation: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autard, Thunis, Cuvelier, Builtjes, et al.</a:t>
            </a:r>
            <a:br>
              <a:rPr sz="24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elta’s:    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unis, Rou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ï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, Cuvelier, et al.</a:t>
            </a:r>
            <a:br>
              <a:rPr sz="24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missions: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Maffeis, et 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l: Atmos. E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Euro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6165720"/>
            <a:ext cx="1904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840" y="1483920"/>
            <a:ext cx="70675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armonisation, support to AQ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ityDelt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bjectives,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uroDelt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bjectives,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64000" y="6165720"/>
            <a:ext cx="1904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080" y="-27000"/>
            <a:ext cx="912492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Project to evaluate uncertainty in SRRs used in AQ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5 regional models: EMEP, MATCH, REM3, CHIMERE,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L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28 emission scenarios (2000, 2010, 2020) with area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specific reductions (FR, GE, IT, NorthSea, Med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60 sectoral emission reductions (2010, 2020) in FR, S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GE, UK, and Med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Zoom studies for Marseille, and Athens (50km =&gt; 10 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Use of the ENSEMBL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Objectives : - Source-receptor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- Spati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- Meteorologic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082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- Confidence limits for policy purposes 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771120"/>
            <a:ext cx="8113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BaseCase: Emissions 2000, Meteo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be0e3"/>
                </a:solidFill>
                <a:latin typeface="Arial"/>
              </a:rPr>
              <a:t>Differences between model results of about 10 ppb in the rural areas and over the countries ; largest differences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be0e3"/>
                </a:solidFill>
                <a:latin typeface="Arial"/>
              </a:rPr>
              <a:t>Model variabiliy of 10 ppb represents about 40% of the ensembl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be0e3"/>
                </a:solidFill>
                <a:latin typeface="Arial"/>
              </a:rPr>
              <a:t>Models are closer in highly populated areas and more different in rural areas and over the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Mean O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65008" b="65843"/>
          <a:stretch/>
        </p:blipFill>
        <p:spPr>
          <a:xfrm>
            <a:off x="925560" y="4149720"/>
            <a:ext cx="2709720" cy="264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alphaModFix amt="50000"/>
          </a:blip>
          <a:srcRect l="0" t="0" r="64028" b="66651"/>
          <a:stretch/>
        </p:blipFill>
        <p:spPr>
          <a:xfrm>
            <a:off x="3851280" y="4156200"/>
            <a:ext cx="3571920" cy="2585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08360" y="4076640"/>
            <a:ext cx="503280" cy="2665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076640"/>
            <a:ext cx="503280" cy="2665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46280" y="51404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Comic Sans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80000" y="6381720"/>
            <a:ext cx="2209680" cy="368280"/>
            <a:chOff x="4680000" y="6381720"/>
            <a:chExt cx="2209680" cy="368280"/>
          </a:xfrm>
        </p:grpSpPr>
        <p:sp>
          <p:nvSpPr>
            <p:cNvPr id="173" name=""/>
            <p:cNvSpPr/>
            <p:nvPr/>
          </p:nvSpPr>
          <p:spPr>
            <a:xfrm>
              <a:off x="4680000" y="63817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832360" y="65721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56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Main Publication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br>
              <a:rPr sz="4800"/>
            </a:br>
            <a:br>
              <a:rPr sz="28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alidation: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 Atm. Env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lta’s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port EuroDelta I (to appear)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port EuroDelta II (Sep 2008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158920" cy="2158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3546360" y="3645000"/>
            <a:ext cx="455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qm.jrc.it/euro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port + DVD available wit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158920" cy="2158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3786480" y="1052640"/>
            <a:ext cx="40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qm.jrc.it/city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VD available wit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ed for Harmo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1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89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Need for Evaluation of the uncertainty in AQ modelling used for AQ poli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Do AQ</a:t>
            </a: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 models produce consistent responses to emission-reduction policy scenario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What are the ranges of these respon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224320"/>
            <a:ext cx="792000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What is the robustness of AQ modell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results in the policy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armonisatio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s we see it</a:t>
            </a:r>
            <a:br>
              <a:rPr sz="2400"/>
            </a:b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and as Fairmode may see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31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269720"/>
            <a:ext cx="8604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Analysis of individual Modelling results (Validation against O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be0e3"/>
                </a:solidFill>
                <a:uFillTx/>
                <a:latin typeface="Arial"/>
              </a:rPr>
              <a:t>Intercomparison of Modell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be0e3"/>
                </a:solidFill>
                <a:uFillTx/>
                <a:latin typeface="Arial"/>
              </a:rPr>
              <a:t>Ensemble approach (mean/median of the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be0e3"/>
                </a:solidFill>
                <a:uFillTx/>
                <a:latin typeface="Arial"/>
              </a:rPr>
              <a:t>Analysis of the variability around the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Validation of the Ensem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Spin-off: improvement and further development of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7080" y="4341960"/>
            <a:ext cx="7775640" cy="222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The Ensemble model is a useful tool in the frame of the Harmonisation of the individual model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It is often more robust and looks therefore more appropriate for policy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43498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5436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he JRC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valuation-Visualisation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64000" y="6165720"/>
            <a:ext cx="1904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133800" y="765000"/>
            <a:ext cx="5327640" cy="1513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765000"/>
            <a:ext cx="1944720" cy="1513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rface, profi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, lid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836640"/>
            <a:ext cx="1368360" cy="50472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1080" y="836640"/>
            <a:ext cx="1368360" cy="50472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836640"/>
            <a:ext cx="1943280" cy="50472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1628640"/>
            <a:ext cx="4537080" cy="50508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D Fields: Meteo, Chemistry, Ae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9440" y="2278080"/>
            <a:ext cx="2014560" cy="43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360" y="2278080"/>
            <a:ext cx="2017440" cy="43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781360"/>
            <a:ext cx="4321440" cy="863640"/>
          </a:xfrm>
          <a:prstGeom prst="ellipse">
            <a:avLst/>
          </a:prstGeom>
          <a:solidFill>
            <a:srgbClr val="ff99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(Window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II-BI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20360" y="3716280"/>
            <a:ext cx="187164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365720"/>
            <a:ext cx="2089080" cy="1512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60720" y="4365720"/>
            <a:ext cx="2593800" cy="1512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O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D model 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Z, YZ, SZ, XY 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with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3716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716280"/>
            <a:ext cx="208908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38920" y="4365720"/>
            <a:ext cx="2593800" cy="1512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Mo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bs .vs.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7159680" cy="486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1280" y="551664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MO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6160" y="836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913280" y="2349360"/>
            <a:ext cx="4195800" cy="4437000"/>
            <a:chOff x="4913280" y="2349360"/>
            <a:chExt cx="4195800" cy="44370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36621" t="6811" r="7688" b="6446"/>
            <a:stretch/>
          </p:blipFill>
          <p:spPr>
            <a:xfrm>
              <a:off x="4913280" y="2349360"/>
              <a:ext cx="419580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200360" y="24937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ion raw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79640" y="719280"/>
            <a:ext cx="7157880" cy="6118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920" y="414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HO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3040200"/>
            <a:ext cx="215640" cy="2156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87640" y="3213000"/>
            <a:ext cx="936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2101" t="2493" r="2388" b="4282"/>
          <a:stretch/>
        </p:blipFill>
        <p:spPr>
          <a:xfrm>
            <a:off x="611280" y="1700280"/>
            <a:ext cx="3240000" cy="2665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H="1">
            <a:off x="755640" y="981000"/>
            <a:ext cx="792000" cy="6494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565360"/>
            <a:ext cx="1873080" cy="180036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1700280"/>
            <a:ext cx="1295280" cy="50328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1700280"/>
            <a:ext cx="720720" cy="28872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ed for Harmo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Arial"/>
              </a:rPr>
              <a:t>Need for Evaluation of the uncertainty in AQ modelling used for AQ policy (see Directive AAQ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be0e3"/>
                </a:solidFill>
                <a:latin typeface="Arial"/>
              </a:rPr>
              <a:t>Is there a (consistent) difference between the fine scale (FS, 5km) and the large scale (LS, 50km) mod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Arial"/>
              </a:rPr>
              <a:t>Do AQ</a:t>
            </a:r>
            <a:r>
              <a:rPr b="0" lang="fr-FR" sz="2800" spc="-1" strike="noStrike">
                <a:solidFill>
                  <a:srgbClr val="bbe0e3"/>
                </a:solidFill>
                <a:latin typeface="Arial"/>
              </a:rPr>
              <a:t> models produce consistent responses to emission-reduction policy scenari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bbe0e3"/>
                </a:solidFill>
                <a:latin typeface="Arial"/>
              </a:rPr>
              <a:t>What are the ranges of these respons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4320"/>
            <a:ext cx="792000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What is the robustness of AQ modell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results in the policy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95280" y="669960"/>
            <a:ext cx="7620120" cy="57913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66600" y="898560"/>
            <a:ext cx="2219400" cy="5915160"/>
            <a:chOff x="66600" y="898560"/>
            <a:chExt cx="2219400" cy="591516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6600" y="1243080"/>
              <a:ext cx="1190880" cy="55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V="1">
              <a:off x="76320" y="898560"/>
              <a:ext cx="2209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219320" y="898560"/>
              <a:ext cx="1066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20" y="133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Harmonisatio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s we se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31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604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Analysis of individual Modelling results (Validation against O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be0e3"/>
                </a:solidFill>
                <a:uFillTx/>
                <a:latin typeface="Arial"/>
              </a:rPr>
              <a:t>Intercomparison of Modell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be0e3"/>
                </a:solidFill>
                <a:uFillTx/>
                <a:latin typeface="Arial"/>
              </a:rPr>
              <a:t>Ensemble approach (mean/median of the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be0e3"/>
                </a:solidFill>
                <a:uFillTx/>
                <a:latin typeface="Arial"/>
              </a:rPr>
              <a:t>Analysis of the variability around the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Validation of the Ensem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Arial"/>
              </a:rPr>
              <a:t>Spin-off: improvement and further development of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121280"/>
            <a:ext cx="7775640" cy="222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The Ensemble model is a useful tool in the frame of the Harmonisation of the individual model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It is often more robust and looks therefore more appropriate for policy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409716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City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03600" y="6165720"/>
            <a:ext cx="1905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240" y="26028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olicy context: Clean Air For Europe (CA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907920"/>
            <a:ext cx="8569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Arial"/>
              </a:rPr>
              <a:t>Launched in 2001 by the European Commission, CAFE was a programme of technical analysis aiming at the development of a long-term, integrated policy advice to protect against negative effects of air pollution on human health and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Arial"/>
              </a:rPr>
              <a:t>Resulting in the Thematic Strategy published Sep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bbe0e3"/>
                </a:solidFill>
                <a:uFillTx/>
                <a:latin typeface="Arial"/>
              </a:rPr>
              <a:t>Question</a:t>
            </a:r>
            <a:r>
              <a:rPr b="0" lang="de-DE" sz="2400" spc="-1" strike="noStrike">
                <a:solidFill>
                  <a:srgbClr val="bbe0e3"/>
                </a:solidFill>
                <a:latin typeface="Arial"/>
              </a:rPr>
              <a:t>: Which measures will lead to a cost-effective reduction of air-pollution health-related problems in European Cities? In particular for O3 and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4941720"/>
            <a:ext cx="835200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be0e3"/>
                </a:solidFill>
                <a:uFillTx/>
                <a:latin typeface="Arial"/>
              </a:rPr>
              <a:t>CityDelta 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ow to include sub-grid effects into a Europe-wide health impact assessment  for PM/O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84600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The JRC has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A model inter-comparison exercise for urban-regional scale dispersion models focusing on 8 European cities to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systematic differences (delta’s) between rural and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ban background AQ (“S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cale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w these delta’s depend on emissions (“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Emission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w these delta’s vary across cities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(“Citie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”)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w these delta’s vary across models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(“Model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w these delta’s vary for PM and O3 (“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Pollutant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1015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Driving force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HO Review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 health impact from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981000"/>
            <a:ext cx="8713800" cy="4817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Damage from long-term exposure to PM2.5/PM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ot yet possible to distinguish potency of individual P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o threshold value for health impact can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levels of long-term mean concentrations are more important than (episodic) peak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ityDelta -  Indicato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nual mean PM2.5/PM10 (W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New evidence for mortality effects from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o firm evidence for no-effect level; but larger uncertainties for effects at low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us also low ozone days are rel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ityDelta - Indicato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O35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720" y="6165720"/>
            <a:ext cx="770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(*) Sum of exceedances over 35 ppb of the maximum of the daily 8-hour m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O3 concentrations, calculated over the entir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716280"/>
            <a:ext cx="8713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65000" y="1700280"/>
          <a:ext cx="7614000" cy="4316400"/>
        </p:xfrm>
        <a:graphic>
          <a:graphicData uri="http://schemas.openxmlformats.org/drawingml/2006/table">
            <a:tbl>
              <a:tblPr/>
              <a:tblGrid>
                <a:gridCol w="1841760"/>
                <a:gridCol w="1717560"/>
                <a:gridCol w="1575000"/>
                <a:gridCol w="1501560"/>
                <a:gridCol w="97812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# of le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AL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A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HIMERE 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: surface-700h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L (50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HIMERE reg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: surface-700h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L (50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EP Unified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: surface-100h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EP-v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: surface-100h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PIS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: 25-25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OTOS 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: 0-35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OTOS rég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: 0-35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OC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7: surface-5h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st level (0-50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aris, Mil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SC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: 0-44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st</a:t>
                      </a:r>
                      <a:r>
                        <a:rPr b="0" lang="fr-FR" sz="14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vel (0-33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O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M3 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: 0-30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M3 reg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: 0-30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f5ec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EM-F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CH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ITY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439560" y="152280"/>
            <a:ext cx="79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bbe0e3"/>
                </a:solidFill>
                <a:uFillTx/>
                <a:latin typeface="Arial"/>
              </a:rPr>
              <a:t>15 Modelling teams: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7 regional-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                                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11 urban-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05:18:52Z</dcterms:created>
  <dc:creator>thunis</dc:creator>
  <dc:description/>
  <dc:language>en-US</dc:language>
  <cp:lastModifiedBy>cuvelco</cp:lastModifiedBy>
  <dcterms:modified xsi:type="dcterms:W3CDTF">2008-10-10T08:17:22Z</dcterms:modified>
  <cp:revision>33</cp:revision>
  <dc:subject/>
  <dc:title>Slide 1</dc:title>
</cp:coreProperties>
</file>